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98FE-42A0-40FA-89C2-3CB20B4FE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0F6E-C111-4848-B7D9-CDD57B32E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F6B3-3459-4F6F-8F3F-6D5AF0E99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7A47-A988-42F8-8D39-DD90A6816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7CDA-9429-4686-BEB8-E428FC6C6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1474-766B-463F-8B2B-487252937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F9EF-4E13-403F-82C6-0BEC851F0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3A33-E742-4C35-80A3-18AC44AD8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A658-3FC7-4742-AD81-38ECA8017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6A56-1B52-4A2F-89F2-5AC71C93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519F-B75B-4153-8C66-567350C0E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0B67-6AC0-44C3-B88D-814C02CC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6E86E-4EB1-473B-AACB-1F9D5FFE5A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hyperlink" Target="http://images.search.yahoo.com/images/view;_ylt=A0PDoX6PpqVO628ANHqJzbkF;_ylu=X3oDMTBlMTQ4cGxyBHNlYwNzcgRzbGsDaW1n?back=http%3A%2F%2Fimages.search.yahoo.com%2Fsearch%2Fimages%3Fp%3Dpools%26n%3D30%26ei%3Dutf-8%26b%3D1%26tab%3Dorganic&amp;w=650&amp;h=524&amp;imgurl=www.landscapeslighting.net%2Fwp-content%2Fuploads%2F2011%2F06%2FPools.jpg&amp;rurl=http%3A%2F%2Fwww.landscapeslighting.net%2Fpools&amp;size=155.5+KB&amp;name=Pools+%7C+Landscape+Lighting&amp;p=pools&amp;oid=f1b33c6aedc9d5f39547e840a7d103ca&amp;fr2=&amp;fr=&amp;tt=Pools+%7C+Landscape+Lighting&amp;b=0&amp;ni=28&amp;no=0&amp;tab=organic&amp;sigr=117bnockq&amp;sigb=12inqrc6h&amp;sigi=11vtenbr2&amp;.crumb=rf/MrpZkk5t" TargetMode="External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í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lo 9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Invierno y el Vera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a Rousse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" dur="1" fill="hold"/>
                                  <p:tgtEl>
                                    <p:spTgt spid="4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04920" y="533160"/>
            <a:ext cx="403848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PA" sz="2800" spc="-1" strike="noStrike">
                <a:solidFill>
                  <a:srgbClr val="000000"/>
                </a:solidFill>
                <a:latin typeface="Arial"/>
              </a:rPr>
              <a:t>¿Qué 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800" spc="-1" strike="noStrike">
                <a:solidFill>
                  <a:srgbClr val="000000"/>
                </a:solidFill>
                <a:latin typeface="Arial"/>
              </a:rPr>
              <a:t>¿Qué tiempo ha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Image Detail"/>
          <p:cNvPicPr/>
          <p:nvPr/>
        </p:nvPicPr>
        <p:blipFill>
          <a:blip r:embed="rId1"/>
          <a:stretch/>
        </p:blipFill>
        <p:spPr>
          <a:xfrm>
            <a:off x="0" y="0"/>
            <a:ext cx="4572000" cy="4572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724280" y="133200"/>
            <a:ext cx="4267440" cy="42865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3520" y="4876920"/>
            <a:ext cx="350496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A" sz="2400" spc="-1" strike="noStrike">
                <a:solidFill>
                  <a:srgbClr val="000000"/>
                </a:solidFill>
                <a:latin typeface="Arial"/>
              </a:rPr>
              <a:t>¿Qué 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400" spc="-1" strike="noStrike">
                <a:solidFill>
                  <a:srgbClr val="000000"/>
                </a:solidFill>
                <a:latin typeface="Arial"/>
              </a:rPr>
              <a:t>¿Qué tiempo ha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19920" y="4419720"/>
            <a:ext cx="2209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181480" y="4648320"/>
            <a:ext cx="34290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000000"/>
                </a:solidFill>
                <a:latin typeface="Arial"/>
              </a:rPr>
              <a:t>¿Qué 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000" spc="-1" strike="noStrike">
                <a:solidFill>
                  <a:srgbClr val="000000"/>
                </a:solidFill>
                <a:latin typeface="Arial"/>
              </a:rPr>
              <a:t>¿Hay olas grandes o pequeña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000000"/>
                </a:solidFill>
                <a:latin typeface="Arial"/>
              </a:rPr>
              <a:t>Dónde pasaron el fin de semana las muchacha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000000"/>
                </a:solidFill>
                <a:latin typeface="Arial"/>
              </a:rPr>
              <a:t>¿Qué hicieron? (actividad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000000"/>
                </a:solidFill>
                <a:latin typeface="Arial"/>
              </a:rPr>
              <a:t>¿Qué llevaron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000000"/>
                </a:solidFill>
                <a:latin typeface="Arial"/>
              </a:rPr>
              <a:t>Nombra 3 cosas sobre la play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000000"/>
                </a:solidFill>
                <a:latin typeface="Arial"/>
              </a:rPr>
              <a:t>¿Qué dos actividades hicier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000000"/>
                </a:solidFill>
                <a:latin typeface="Arial"/>
              </a:rPr>
              <a:t>¿Dónde nadar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3962520" cy="3276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876920" y="380880"/>
            <a:ext cx="4038480" cy="327672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228600" y="2666520"/>
            <a:ext cx="403848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000000"/>
                </a:solidFill>
                <a:latin typeface="Arial"/>
              </a:rPr>
              <a:t>¿Qué practicó el muchach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000000"/>
                </a:solidFill>
                <a:latin typeface="Arial"/>
              </a:rPr>
              <a:t>¿Qué necesitó para el deporte acuático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4038840" cy="2438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181480" y="228600"/>
            <a:ext cx="3353040" cy="2362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715000" y="2550960"/>
            <a:ext cx="2133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34120" y="255096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000000"/>
                </a:solidFill>
                <a:latin typeface="Arial"/>
              </a:rPr>
              <a:t>¿Qué practicó la ardill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Image Detail"/>
          <p:cNvPicPr/>
          <p:nvPr/>
        </p:nvPicPr>
        <p:blipFill>
          <a:blip r:embed="rId3"/>
          <a:stretch/>
        </p:blipFill>
        <p:spPr>
          <a:xfrm>
            <a:off x="5334120" y="3048120"/>
            <a:ext cx="3124080" cy="25905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715000" y="57913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000000"/>
                </a:solidFill>
                <a:latin typeface="Arial"/>
              </a:rPr>
              <a:t>¿Qué practicó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1523520"/>
            <a:ext cx="4038480" cy="2186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57200" y="396252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Image Detail"/>
          <p:cNvPicPr/>
          <p:nvPr/>
        </p:nvPicPr>
        <p:blipFill>
          <a:blip r:embed="rId3"/>
          <a:stretch/>
        </p:blipFill>
        <p:spPr>
          <a:xfrm>
            <a:off x="533520" y="3886200"/>
            <a:ext cx="3886200" cy="19051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62120" y="548640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000" spc="-1" strike="noStrike">
                <a:solidFill>
                  <a:srgbClr val="000000"/>
                </a:solidFill>
                <a:latin typeface="Arial"/>
              </a:rPr>
              <a:t>¿Dónde nad</a:t>
            </a:r>
            <a:r>
              <a:rPr b="1" lang="es-PA" sz="2000" spc="-1" strike="noStrike">
                <a:solidFill>
                  <a:srgbClr val="000000"/>
                </a:solidFill>
                <a:latin typeface="Arial"/>
                <a:ea typeface="Arial"/>
              </a:rPr>
              <a:t>ó la muchacha</a:t>
            </a:r>
            <a:r>
              <a:rPr b="1" lang="es-PA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57200" y="685800"/>
            <a:ext cx="3962520" cy="265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219320" y="3313080"/>
            <a:ext cx="20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PA" sz="2000" spc="-1" strike="noStrike">
                <a:solidFill>
                  <a:srgbClr val="000000"/>
                </a:solidFill>
                <a:latin typeface="Arial"/>
              </a:rPr>
              <a:t>¿Qué es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5029200" y="457200"/>
            <a:ext cx="3733920" cy="27338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876920" y="3352680"/>
            <a:ext cx="426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000000"/>
                </a:solidFill>
                <a:latin typeface="Arial"/>
              </a:rPr>
              <a:t>¿Qué deporte jugar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000000"/>
                </a:solidFill>
                <a:latin typeface="Arial"/>
              </a:rPr>
              <a:t>¿Dónde jugar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000000"/>
                </a:solidFill>
                <a:latin typeface="Arial"/>
              </a:rPr>
              <a:t>¿Jugaron al aire libre o en una cancha cubiert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000000"/>
                </a:solidFill>
                <a:latin typeface="Arial"/>
              </a:rPr>
              <a:t>¿Jugaron singles o dobl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000000"/>
                </a:solidFill>
                <a:latin typeface="Arial"/>
              </a:rPr>
              <a:t>¿Quién golpeó la pelot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000000"/>
                </a:solidFill>
                <a:latin typeface="Arial"/>
              </a:rPr>
              <a:t>¿Por dónde pasó la pelot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3962520" cy="28195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295280" y="3497400"/>
            <a:ext cx="2514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98560" y="3160800"/>
            <a:ext cx="27590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1900080"/>
            <a:ext cx="36576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000000"/>
                </a:solidFill>
                <a:latin typeface="Arial"/>
              </a:rPr>
              <a:t>¿Quiénes s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000000"/>
                </a:solidFill>
                <a:latin typeface="Arial"/>
              </a:rPr>
              <a:t>¿Qué bajar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000000"/>
                </a:solidFill>
                <a:latin typeface="Arial"/>
              </a:rPr>
              <a:t>Nombra cuatro cosas que un esquiador necesita para esquiar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800600" y="228600"/>
            <a:ext cx="3886200" cy="28954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724280" y="304812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000000"/>
                </a:solidFill>
                <a:latin typeface="Arial"/>
              </a:rPr>
              <a:t>¿Qué tomaron para subir la monta</a:t>
            </a:r>
            <a:r>
              <a:rPr b="0" lang="es-PA" sz="1800" spc="-1" strike="noStrike">
                <a:solidFill>
                  <a:srgbClr val="000000"/>
                </a:solidFill>
                <a:latin typeface="Arial"/>
                <a:ea typeface="Arial"/>
              </a:rPr>
              <a:t>ñ</a:t>
            </a:r>
            <a:r>
              <a:rPr b="0" lang="es-PA" sz="1800" spc="-1" strike="noStrike">
                <a:solidFill>
                  <a:srgbClr val="000000"/>
                </a:solidFill>
                <a:latin typeface="Arial"/>
              </a:rPr>
              <a:t>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48320" y="3809880"/>
            <a:ext cx="403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000000"/>
                </a:solidFill>
                <a:latin typeface="Arial"/>
              </a:rPr>
              <a:t>¿Qué tiempo hace en el invierno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000000"/>
                </a:solidFill>
                <a:latin typeface="Arial"/>
              </a:rPr>
              <a:t>¿Dónde  compraron los esquiadores los boleto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4T16:17:01Z</dcterms:created>
  <dc:creator>erousseau</dc:creator>
  <dc:description/>
  <dc:language>en-US</dc:language>
  <cp:lastModifiedBy>erousseau</cp:lastModifiedBy>
  <dcterms:modified xsi:type="dcterms:W3CDTF">2011-10-24T18:45:01Z</dcterms:modified>
  <cp:revision>7</cp:revision>
  <dc:subject/>
  <dc:title>Capítulo 9: El Invierno y el Verano</dc:title>
</cp:coreProperties>
</file>